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EA46-FF94-4B2F-962C-52045EC0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A16-4384-4829-B9EC-71D96F1A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98D-7AB2-4C81-8CEE-5A3C9CFD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A89-2451-4BFE-B364-BC613850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1C16-8CA6-460C-AB81-25D3322A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FA4B-9938-44CE-AC93-82883E37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0624-335B-4827-939B-7DEACB34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16C9-C9BE-49A4-AD86-770F7566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FC8F-8793-4B01-9565-37F83AE8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727A-54F5-431A-A967-F311B38F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E83C-667D-4BC5-BE0B-54751329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6F7-8523-44F3-A736-E296755E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C610-F8AA-43FF-93BF-C5259604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FF62-F2E0-445C-8A90-860EE3CD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47C3-E275-4DA6-A78D-EC726438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1D9-D1A4-4857-806E-0411700A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F978-202C-4AD3-B7E0-F6BA7D97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BC0F-BF50-48EC-BD31-249700D7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07D-B3F1-4E45-8611-3FDF3768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5DE-1B04-4AC6-BA97-1F54B471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BA3-958B-4258-817A-C360A06F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AD9-C020-4B6C-9C22-A763EFBC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ED2-4F72-4B1E-9D45-1936BFB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A3A-68F2-4868-98FA-06E4B4A0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24640" indent="-26028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2360" indent="-247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25280" indent="-241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E75-D432-4856-8ECB-9BF218A54DF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534C-72B1-4A4B-A89F-18B22C2DFC8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mechanical and electromagnetic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transverse and longitudin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speed of a wave only depends on its med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ould not possibly make a slinky wave go faster or slower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unchan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4290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784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requency = How often the particles of a medium vibrate as the wave passes through.  (cycles/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is measured in Hertz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Hz = 1 cycle/sec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733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784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iod = The time for a particle in a medium to make one complete vibration cycle.  (ti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733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27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2240" indent="-2887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velength = The length of one wave cycle. 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240" indent="-2887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’ll find that wavelength, frequency, and period are insepar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3480" indent="-2872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ng wave naturally takes longer to happen, and thus happens less of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733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4784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mplitude = The maximum amount of displacement of a particle from its rest position. (dist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256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est = “Top” or “peak” of the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256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ough = “Bottom” or “valley” of the w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7339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0280" indent="-3416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 and wavelength can be easily conf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3398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= distance from crest to c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3398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tude = distance from crest to standstill, the place where the particle would be if there were no wave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39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out using your notes, answer these ques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two kinds of wa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920" indent="-31176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essential difference between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3920" indent="-31356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two kind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chanic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v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920" indent="-311760"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essential difference between th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ve Equ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s students must memorize these.  College prep students need not, but must be able to use them in problems neverthel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ed = Wavelength/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120" indent="-2836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is this?  (Remember that speed = distance/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7560" indent="-28512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peed = Wavelength x Freq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120" indent="-2836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ll that frequency = cycles/tim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7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term In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49200" indent="-271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you may bring to the midter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two #2 penc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own calculator (recommend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one page outline for the essay (I CANNOT PRINT IT FOR YO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LORNT grid, if you are doing essay #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200" indent="-2710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you will be provided with on the midter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7400" indent="-2696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or, unit conversions sheet (doesn’t include metric prefixes!), periodic table from textbook, vocabulary list (no defini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term In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5600" indent="-3380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s everyone needs to memor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, percent 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5600" indent="-3380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s you will be provided if you are in College Pre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-3366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gravity, both wave e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niver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8240" indent="-317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universe can obviously NOT be directly measur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240" indent="-317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ssential indirect measurement is necessary to study the universe - light.  And to understand light, we need to understand wa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240" indent="-31716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k with your partner: What is a wa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dterm Inf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2920" indent="-32040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info forthcoming on study strategies, format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2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2920" indent="-32040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is work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homework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6280" indent="-31896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start studying for the midte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nterval shows one full waveleng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6600" indent="-33120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nterval shows amplitu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6390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nterval shows one full wavelength?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-E, B-F, or C-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interval shows amplitude?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-B, B-C, C-D, D-E, E-F, F-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6390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1920" indent="-3276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ave = a disturbance that propagates (“moves”) through space and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9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1920" indent="-3276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with your partner: Come up with as many things that travel in waves as you c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58560" indent="-2782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kinds of waves.  One difference involves a medium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dium = matter or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560" indent="-2782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lectromagnetic wave = electric/magnetic radiation.  Doe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need a mediu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ncludes radio waves, microwaves, X-rays, l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8560" indent="-278280">
              <a:lnSpc>
                <a:spcPct val="10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chanical wave = an oscillation (movement) of matter. 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e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need a mediu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ncludes sound, ocean waves, seismic wa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9240" indent="-3099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 waves are easier for most people to visualize, so we’ll start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240" indent="-30996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nky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8560" indent="-3085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with the slinky.  Find and describe two different types of mechanical waves.  Contrast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560" indent="-3085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them: describe ways that each of those two waves can v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inguish between transverse and longitudin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main five qualities or properties of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4704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use the wave equa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7600" indent="-32400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kinds of mechanical wa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25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ransverse wave = wave moves perpendicular to the direction of the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5280" indent="-322560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ngitudinal wave = wave moves parallel to the direction of the ener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153040" y="2057400"/>
            <a:ext cx="3990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chanical Wa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cal waves are described in terms of these qualities: speed, frequency, period, wavelength, and ampl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-348840">
              <a:lnSpc>
                <a:spcPct val="10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ed = the d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raveled in a span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ime. (distance/ti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4290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0:26:46Z</dcterms:created>
  <dc:creator>Rebecca Stang</dc:creator>
  <dc:description/>
  <dc:language>en-US</dc:language>
  <cp:lastModifiedBy>Rebecca Stang</cp:lastModifiedBy>
  <dcterms:modified xsi:type="dcterms:W3CDTF">2010-01-21T15:32:51Z</dcterms:modified>
  <cp:revision>168</cp:revision>
  <dc:subject/>
  <dc:title>Waves</dc:title>
</cp:coreProperties>
</file>